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8BD-72FD-4C2F-BDBD-346A8CE0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08F0-989D-4B83-A95F-9B4FD30C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1D56-B64D-4729-A874-27BCF0AD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3F3-CCC2-4146-9262-175800E1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E71E-1ADD-4735-9C89-84D156AF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BC67-897E-4DAA-9E87-F965CEF5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8938-62BB-4F56-A238-CC79022A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059C-E1C1-4F6B-80FE-794EE762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AE24-B667-474D-B059-F7303C36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83EC-32E8-4555-B2F2-D610A3B0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95E0-CBD5-4757-9C54-20747E32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0E0F-AAD8-482E-B694-724D39E7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00BF-56D1-46E2-A4D1-A03158763969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artner Numbers to 1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en you see a number, you must say its partner number to 10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3" descr=""/>
          <p:cNvPicPr/>
          <p:nvPr/>
        </p:nvPicPr>
        <p:blipFill>
          <a:blip r:embed="rId1"/>
          <a:stretch/>
        </p:blipFill>
        <p:spPr>
          <a:xfrm>
            <a:off x="7077240" y="3444840"/>
            <a:ext cx="2242800" cy="191304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4" descr=""/>
          <p:cNvPicPr/>
          <p:nvPr/>
        </p:nvPicPr>
        <p:blipFill>
          <a:blip r:embed="rId2"/>
          <a:stretch/>
        </p:blipFill>
        <p:spPr>
          <a:xfrm>
            <a:off x="554040" y="171360"/>
            <a:ext cx="2128680" cy="14320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5" descr=""/>
          <p:cNvPicPr/>
          <p:nvPr/>
        </p:nvPicPr>
        <p:blipFill>
          <a:blip r:embed="rId3"/>
          <a:stretch/>
        </p:blipFill>
        <p:spPr>
          <a:xfrm>
            <a:off x="1584360" y="4962600"/>
            <a:ext cx="20304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990720" y="1752480"/>
            <a:ext cx="76960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143000" y="1752480"/>
            <a:ext cx="67816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Set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219320" y="1752480"/>
            <a:ext cx="70102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GO!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davidl.cogswell\AppData\Local\Microsoft\Windows\Temporary Internet Files\Content.IE5\Z7QGQ8E3\MP900448675[1].jpg"/>
          <p:cNvPicPr/>
          <p:nvPr/>
        </p:nvPicPr>
        <p:blipFill>
          <a:blip r:embed="rId1"/>
          <a:stretch/>
        </p:blipFill>
        <p:spPr>
          <a:xfrm>
            <a:off x="0" y="2457360"/>
            <a:ext cx="4400640" cy="440064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1219320" y="0"/>
            <a:ext cx="792468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00"/>
                </a:solidFill>
                <a:latin typeface="Calibri"/>
              </a:rPr>
              <a:t>Great Job!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Calibri"/>
              </a:rPr>
              <a:t>How did you do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2971800" y="1752480"/>
            <a:ext cx="2971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6T12:08:30Z</dcterms:created>
  <dc:creator>David Cogswell</dc:creator>
  <dc:description/>
  <dc:language>en-US</dc:language>
  <cp:lastModifiedBy>Mike</cp:lastModifiedBy>
  <dcterms:modified xsi:type="dcterms:W3CDTF">2012-07-10T01:58:21Z</dcterms:modified>
  <cp:revision>2</cp:revision>
  <dc:subject/>
  <dc:title>Doubles!</dc:title>
</cp:coreProperties>
</file>